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3B6-EBBE-40D6-867A-64F6D27B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105-FC8E-40EA-B1C3-40977F95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1D0-B6BF-488F-B106-1FE71D1D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D2B-4152-49EC-B2BF-66320617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D868-A070-444D-B8F4-EC386EA0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0BB8-3D65-428A-AD63-B48C26C4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27B-4389-4D45-9590-CDE492F2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7E42-9EDF-46A1-8255-E87259FB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A7BA-EF30-49D8-B3BD-29D3B73B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E3CD-2489-4F07-A724-3D59EA85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CA1D-51B6-406C-A9C9-9EF5988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E01-1F49-45FC-A2A7-FD6BE038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679C-A110-4D2A-B377-13A003C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2892-9F5A-4C56-8A97-45F0831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B352-863E-486C-99DF-D4E23B4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08B4-7F88-4E12-83E6-0A15E030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36F0-0B9C-426D-AF6D-D8C40767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856-32F3-4B6B-969D-7819C854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AC4-3B99-437A-91D5-A153D03A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37F-A74C-4DA4-9464-B8CF47D4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2CC-A170-49D8-9FF0-BC90EC23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1CC-17EF-446E-A646-1878984F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257-E6BB-49B5-A11F-25613CD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923-BCDC-44FF-B0ED-16830E0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141-92C1-4CF8-BE36-FBED85330A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467-A2F8-4CE1-A898-0657AF6FC3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SC03317"/>
          <p:cNvPicPr/>
          <p:nvPr/>
        </p:nvPicPr>
        <p:blipFill>
          <a:blip r:embed="rId1"/>
          <a:stretch/>
        </p:blipFill>
        <p:spPr>
          <a:xfrm>
            <a:off x="0" y="462924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ngertian Penilaian Ekonomi Kerusakan Sumberdaya alam dan Lingkun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051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n : Rizal Bahtiar, S.Pi, M.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SC03513"/>
          <p:cNvPicPr/>
          <p:nvPr/>
        </p:nvPicPr>
        <p:blipFill>
          <a:blip r:embed="rId2"/>
          <a:stretch/>
        </p:blipFill>
        <p:spPr>
          <a:xfrm>
            <a:off x="5826240" y="4532400"/>
            <a:ext cx="3317760" cy="232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03313"/>
          <p:cNvPicPr/>
          <p:nvPr/>
        </p:nvPicPr>
        <p:blipFill>
          <a:blip r:embed="rId3"/>
          <a:stretch/>
        </p:blipFill>
        <p:spPr>
          <a:xfrm>
            <a:off x="2971800" y="4821120"/>
            <a:ext cx="29462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Pemanfaatan Sumberdaya Al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umberdaya Alam dapat dimanfaatkan dalam 2 bentuk yaitu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roduk/sumberdaya itu send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J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Langkah-Langkah dalam Penilaian Ekonomi Kerusakan Sumberdaya dan Lingkung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807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layanan SDAL yang terkena dampak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ngkat layanan SDAL sebelum terkena dampak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antifikasi tingkat layanan setelah terkena dampak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enentukan layanan yang hilang berdasarkan selisi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ilai sebelum dan sesudah terkena dampak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3" descr=""/>
          <p:cNvPicPr/>
          <p:nvPr/>
        </p:nvPicPr>
        <p:blipFill>
          <a:blip r:embed="rId1"/>
          <a:stretch/>
        </p:blipFill>
        <p:spPr>
          <a:xfrm>
            <a:off x="1736640" y="2749680"/>
            <a:ext cx="566424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Beberapa Pengertian Kerusakan Lingkung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erusakan Lingkungan (KL) adalah kondisi terjadinya perubahan (ke arah lebih buruk) atas layanan barang dan jasa dari S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enurunnya nilai kegunaan dan non-kegunaan akibat terganggunya layanan barang dan jasa dari S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Terjadinya perubahan surplus yang dapat dihasilkan dari S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Pengertian Kerusakan Lingkunga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erusakan Lingkungan adalah Terjadinya penurunan nilai guna dan non guna dari suatu sumberdaya alam dan lingkungan yang berdampak terhadap penurunan kesejahteraan manu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Alur Kerusakan Sumberdaya Alam dan Lingkung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743200" y="1752480"/>
            <a:ext cx="312408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43200" y="3048120"/>
            <a:ext cx="312408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430360" y="4343400"/>
            <a:ext cx="37339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743200" y="5562720"/>
            <a:ext cx="312408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8"/>
          <p:cNvCxnSpPr>
            <a:stCxn id="105" idx="2"/>
            <a:endCxn id="106" idx="0"/>
          </p:cNvCxnSpPr>
          <p:nvPr/>
        </p:nvCxnSpPr>
        <p:spPr>
          <a:xfrm flipH="1">
            <a:off x="4303080" y="2592360"/>
            <a:ext cx="39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0"/>
          <p:cNvCxnSpPr>
            <a:stCxn id="106" idx="2"/>
            <a:endCxn id="107" idx="0"/>
          </p:cNvCxnSpPr>
          <p:nvPr/>
        </p:nvCxnSpPr>
        <p:spPr>
          <a:xfrm flipH="1">
            <a:off x="4296960" y="3886200"/>
            <a:ext cx="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>
            <a:stCxn id="107" idx="2"/>
            <a:endCxn id="108" idx="0"/>
          </p:cNvCxnSpPr>
          <p:nvPr/>
        </p:nvCxnSpPr>
        <p:spPr>
          <a:xfrm>
            <a:off x="4297320" y="5181120"/>
            <a:ext cx="86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Arial"/>
              </a:rPr>
              <a:t>Release adalah adanya zat atau unsur yang mulai dilepaskan ke alam atau mulai terlihat tanda-tanda dari kerusakan sumberdaya alam dan lingkung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Arial"/>
              </a:rPr>
              <a:t>Pathway adalah media penyebaran kerusakan atau penyebab timbulnya kerusakan sumberdaya alam dan lingkung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Arial"/>
              </a:rPr>
              <a:t>Exposure adalah menunjukkan bahwa kerusakan sumberdaya alam dan lingkungan telah menyebar atau mulai terlihat oleh masyaraka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Arial"/>
              </a:rPr>
              <a:t>Injury adalah sumberdaya alam dan lingkungan telah dinyatakan luka atau rusak dan berdampak luas bagi lingkungan, yang memberikan kerugian bagi masyarakat sekitarny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Pengertian Penilaian Kerusakan Sumberdaya Alam dan Lingkung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ilaian kerusakan adalah Proses pemberian penilaian sejauhmana tingkat kerusakan yang terjadi sebagai akibat dari bencana alam atau bencana yang disebabkan oleh manu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enurut Precht, et al (2000) Penilaian Kerusakan adalah proses untuk mengidentifikasi dan mengukur injury sumberdaya alam, menentukan kerusakan akibat injury serta mengembangkan dan melaksanakan restorasi sesuai tind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Pengertian Penilaian Ekonomi Kerusakan Sumberdaya Al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enilaian Ekonomi Kerusakan Sumberdaya Alam adalah proses penilaian kerusakan sumberdaya alam yang dinilai dalam bentuk moneter (ekonomi) dengan menggunakan teknik-teknik dalam valuasi ekonomi sumberdaya dan lingku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Klasifikasi Sumberday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3"/>
          <p:cNvSpPr/>
          <p:nvPr/>
        </p:nvSpPr>
        <p:spPr>
          <a:xfrm>
            <a:off x="3657600" y="1752480"/>
            <a:ext cx="1981080" cy="685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BER D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4"/>
          <p:cNvSpPr/>
          <p:nvPr/>
        </p:nvSpPr>
        <p:spPr>
          <a:xfrm>
            <a:off x="1523880" y="2819520"/>
            <a:ext cx="1981440" cy="685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BER DAYA A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5"/>
          <p:cNvSpPr/>
          <p:nvPr/>
        </p:nvSpPr>
        <p:spPr>
          <a:xfrm>
            <a:off x="5943600" y="2819520"/>
            <a:ext cx="1981080" cy="685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BER DAYA MAN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Elbow Connector 6"/>
          <p:cNvCxnSpPr>
            <a:stCxn id="118" idx="2"/>
            <a:endCxn id="119" idx="0"/>
          </p:cNvCxnSpPr>
          <p:nvPr/>
        </p:nvCxnSpPr>
        <p:spPr>
          <a:xfrm rot="5400000">
            <a:off x="3390120" y="1561680"/>
            <a:ext cx="381960" cy="2134440"/>
          </a:xfrm>
          <a:prstGeom prst="bentConnector3">
            <a:avLst>
              <a:gd name="adj1" fmla="val 50000"/>
            </a:avLst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122" name="Elbow Connector 7"/>
          <p:cNvCxnSpPr>
            <a:stCxn id="118" idx="2"/>
            <a:endCxn id="120" idx="0"/>
          </p:cNvCxnSpPr>
          <p:nvPr/>
        </p:nvCxnSpPr>
        <p:spPr>
          <a:xfrm flipH="1" rot="16200000">
            <a:off x="5600520" y="1485360"/>
            <a:ext cx="381960" cy="2286720"/>
          </a:xfrm>
          <a:prstGeom prst="bentConnector3">
            <a:avLst>
              <a:gd name="adj1" fmla="val 50000"/>
            </a:avLst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sp>
        <p:nvSpPr>
          <p:cNvPr id="123" name="Rounded Rectangle 8"/>
          <p:cNvSpPr/>
          <p:nvPr/>
        </p:nvSpPr>
        <p:spPr>
          <a:xfrm>
            <a:off x="76320" y="4038480"/>
            <a:ext cx="1447560" cy="685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A Pulih (Renew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1555920" y="4038480"/>
            <a:ext cx="1904760" cy="685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A Tidak Pulih (Non-Renew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10"/>
          <p:cNvSpPr/>
          <p:nvPr/>
        </p:nvSpPr>
        <p:spPr>
          <a:xfrm>
            <a:off x="3522600" y="4038480"/>
            <a:ext cx="1524240" cy="685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A Mengalir (F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11"/>
          <p:cNvSpPr/>
          <p:nvPr/>
        </p:nvSpPr>
        <p:spPr>
          <a:xfrm>
            <a:off x="5108400" y="4038480"/>
            <a:ext cx="1368720" cy="1219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 Manus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uman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12"/>
          <p:cNvSpPr/>
          <p:nvPr/>
        </p:nvSpPr>
        <p:spPr>
          <a:xfrm>
            <a:off x="7086600" y="4038480"/>
            <a:ext cx="1600200" cy="129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 Buatan Manusia (Man Mad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13"/>
          <p:cNvCxnSpPr>
            <a:stCxn id="119" idx="2"/>
            <a:endCxn id="123" idx="0"/>
          </p:cNvCxnSpPr>
          <p:nvPr/>
        </p:nvCxnSpPr>
        <p:spPr>
          <a:xfrm rot="5400000">
            <a:off x="1390320" y="2914560"/>
            <a:ext cx="533880" cy="1715040"/>
          </a:xfrm>
          <a:prstGeom prst="bentConnector3">
            <a:avLst>
              <a:gd name="adj1" fmla="val 50000"/>
            </a:avLst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129" name="Elbow Connector 14"/>
          <p:cNvCxnSpPr>
            <a:stCxn id="119" idx="2"/>
            <a:endCxn id="124" idx="0"/>
          </p:cNvCxnSpPr>
          <p:nvPr/>
        </p:nvCxnSpPr>
        <p:spPr>
          <a:xfrm rot="5400000">
            <a:off x="2244240" y="3768480"/>
            <a:ext cx="533880" cy="7200"/>
          </a:xfrm>
          <a:prstGeom prst="bentConnector3">
            <a:avLst>
              <a:gd name="adj1" fmla="val 50000"/>
            </a:avLst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130" name="Elbow Connector 15"/>
          <p:cNvCxnSpPr>
            <a:stCxn id="119" idx="2"/>
            <a:endCxn id="125" idx="0"/>
          </p:cNvCxnSpPr>
          <p:nvPr/>
        </p:nvCxnSpPr>
        <p:spPr>
          <a:xfrm flipH="1" rot="16200000">
            <a:off x="3132000" y="2886480"/>
            <a:ext cx="533880" cy="1770840"/>
          </a:xfrm>
          <a:prstGeom prst="bentConnector3">
            <a:avLst>
              <a:gd name="adj1" fmla="val 50000"/>
            </a:avLst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131" name="Elbow Connector 16"/>
          <p:cNvCxnSpPr>
            <a:stCxn id="120" idx="2"/>
            <a:endCxn id="126" idx="0"/>
          </p:cNvCxnSpPr>
          <p:nvPr/>
        </p:nvCxnSpPr>
        <p:spPr>
          <a:xfrm rot="5400000">
            <a:off x="6096240" y="3200760"/>
            <a:ext cx="533880" cy="1142280"/>
          </a:xfrm>
          <a:prstGeom prst="bentConnector3">
            <a:avLst>
              <a:gd name="adj1" fmla="val 50000"/>
            </a:avLst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132" name="Elbow Connector 17"/>
          <p:cNvCxnSpPr>
            <a:stCxn id="120" idx="2"/>
            <a:endCxn id="127" idx="0"/>
          </p:cNvCxnSpPr>
          <p:nvPr/>
        </p:nvCxnSpPr>
        <p:spPr>
          <a:xfrm flipH="1" rot="16200000">
            <a:off x="7143840" y="3295080"/>
            <a:ext cx="533880" cy="953280"/>
          </a:xfrm>
          <a:prstGeom prst="bentConnector3">
            <a:avLst>
              <a:gd name="adj1" fmla="val 50000"/>
            </a:avLst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sp>
        <p:nvSpPr>
          <p:cNvPr id="133" name="Rounded Rectangle 18"/>
          <p:cNvSpPr/>
          <p:nvPr/>
        </p:nvSpPr>
        <p:spPr>
          <a:xfrm>
            <a:off x="76320" y="4724280"/>
            <a:ext cx="14475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oh: Hutan, Ikan, Hewan 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19"/>
          <p:cNvSpPr/>
          <p:nvPr/>
        </p:nvSpPr>
        <p:spPr>
          <a:xfrm>
            <a:off x="1555920" y="4724280"/>
            <a:ext cx="19047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oh: Tambang, Air Ta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20"/>
          <p:cNvSpPr/>
          <p:nvPr/>
        </p:nvSpPr>
        <p:spPr>
          <a:xfrm>
            <a:off x="3519360" y="4724280"/>
            <a:ext cx="1524240" cy="1067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oh: Cahaya, Gelombang,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21"/>
          <p:cNvSpPr/>
          <p:nvPr/>
        </p:nvSpPr>
        <p:spPr>
          <a:xfrm>
            <a:off x="7086600" y="5334120"/>
            <a:ext cx="1600200" cy="1295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oh: Bendungan, Jalan, Bandara, Peruma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Manfaat Sumberdaya Alam dan Lingkung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95880" y="1977840"/>
            <a:ext cx="46440" cy="293760"/>
            <a:chOff x="4295880" y="1977840"/>
            <a:chExt cx="46440" cy="293760"/>
          </a:xfrm>
        </p:grpSpPr>
        <p:cxnSp>
          <p:nvCxnSpPr>
            <p:cNvPr id="139" name="AutoShape 18"/>
            <p:cNvCxnSpPr/>
            <p:nvPr/>
          </p:nvCxnSpPr>
          <p:spPr>
            <a:xfrm>
              <a:off x="4295880" y="1977840"/>
              <a:ext cx="46800" cy="29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" name=""/>
            <p:cNvSpPr txBox="1"/>
            <p:nvPr/>
          </p:nvSpPr>
          <p:spPr>
            <a:xfrm>
              <a:off x="4295880" y="1977840"/>
              <a:ext cx="46080" cy="29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5"/>
          <p:cNvSpPr/>
          <p:nvPr/>
        </p:nvSpPr>
        <p:spPr>
          <a:xfrm>
            <a:off x="1219320" y="2743200"/>
            <a:ext cx="2681280" cy="7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5638680" y="2735280"/>
            <a:ext cx="268128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on-U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219320" y="3809880"/>
            <a:ext cx="1228680" cy="117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irect U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590920" y="3809880"/>
            <a:ext cx="1228680" cy="117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ndirect U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410080" y="3809880"/>
            <a:ext cx="1490760" cy="117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xistenc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162920" y="3809880"/>
            <a:ext cx="1218960" cy="117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eques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895480" y="1676520"/>
            <a:ext cx="3657600" cy="73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otal Econom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4114800" y="3809880"/>
            <a:ext cx="1143000" cy="117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ptio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Elbow Connector 26"/>
          <p:cNvCxnSpPr>
            <a:stCxn id="147" idx="2"/>
            <a:endCxn id="141" idx="0"/>
          </p:cNvCxnSpPr>
          <p:nvPr/>
        </p:nvCxnSpPr>
        <p:spPr>
          <a:xfrm rot="5400000">
            <a:off x="3476520" y="1495440"/>
            <a:ext cx="329040" cy="21661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0" name="Elbow Connector 28"/>
          <p:cNvCxnSpPr>
            <a:stCxn id="147" idx="2"/>
            <a:endCxn id="142" idx="0"/>
          </p:cNvCxnSpPr>
          <p:nvPr/>
        </p:nvCxnSpPr>
        <p:spPr>
          <a:xfrm flipH="1" rot="16200000">
            <a:off x="5690880" y="1447200"/>
            <a:ext cx="321480" cy="225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1" name="Elbow Connector 30"/>
          <p:cNvCxnSpPr>
            <a:stCxn id="141" idx="2"/>
            <a:endCxn id="143" idx="0"/>
          </p:cNvCxnSpPr>
          <p:nvPr/>
        </p:nvCxnSpPr>
        <p:spPr>
          <a:xfrm rot="5400000">
            <a:off x="2048760" y="3300120"/>
            <a:ext cx="294120" cy="726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2" name="Elbow Connector 32"/>
          <p:cNvCxnSpPr>
            <a:stCxn id="141" idx="2"/>
            <a:endCxn id="144" idx="0"/>
          </p:cNvCxnSpPr>
          <p:nvPr/>
        </p:nvCxnSpPr>
        <p:spPr>
          <a:xfrm flipH="1" rot="16200000">
            <a:off x="2734200" y="3339720"/>
            <a:ext cx="294120" cy="646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3" name="Elbow Connector 34"/>
          <p:cNvCxnSpPr>
            <a:stCxn id="142" idx="2"/>
            <a:endCxn id="145" idx="0"/>
          </p:cNvCxnSpPr>
          <p:nvPr/>
        </p:nvCxnSpPr>
        <p:spPr>
          <a:xfrm rot="5400000">
            <a:off x="6415920" y="3247560"/>
            <a:ext cx="300600" cy="824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Elbow Connector 36"/>
          <p:cNvCxnSpPr>
            <a:stCxn id="142" idx="2"/>
            <a:endCxn id="146" idx="0"/>
          </p:cNvCxnSpPr>
          <p:nvPr/>
        </p:nvCxnSpPr>
        <p:spPr>
          <a:xfrm flipH="1" rot="16200000">
            <a:off x="7224480" y="3262680"/>
            <a:ext cx="300600" cy="79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Shape 38"/>
          <p:cNvCxnSpPr>
            <a:stCxn id="141" idx="3"/>
            <a:endCxn id="148" idx="0"/>
          </p:cNvCxnSpPr>
          <p:nvPr/>
        </p:nvCxnSpPr>
        <p:spPr>
          <a:xfrm>
            <a:off x="3900240" y="3130200"/>
            <a:ext cx="786600" cy="6800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56" name="Shape 40"/>
          <p:cNvCxnSpPr>
            <a:stCxn id="142" idx="1"/>
            <a:endCxn id="148" idx="0"/>
          </p:cNvCxnSpPr>
          <p:nvPr/>
        </p:nvCxnSpPr>
        <p:spPr>
          <a:xfrm flipV="1" rot="10800000">
            <a:off x="4685760" y="3121560"/>
            <a:ext cx="952920" cy="6879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3:43:23Z</dcterms:created>
  <dc:creator>Acer</dc:creator>
  <dc:description/>
  <dc:language>en-US</dc:language>
  <cp:lastModifiedBy>User</cp:lastModifiedBy>
  <dcterms:modified xsi:type="dcterms:W3CDTF">2013-09-02T14:40:07Z</dcterms:modified>
  <cp:revision>12</cp:revision>
  <dc:subject/>
  <dc:title>Perhitungan Produktivitas Hutan</dc:title>
</cp:coreProperties>
</file>